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0.wmf" ContentType="image/x-wmf"/>
  <Override PartName="/ppt/media/image18.png" ContentType="image/png"/>
  <Override PartName="/ppt/media/image6.png" ContentType="image/png"/>
  <Override PartName="/ppt/media/image37.png" ContentType="image/png"/>
  <Override PartName="/ppt/media/image30.png" ContentType="image/png"/>
  <Override PartName="/ppt/media/image49.png" ContentType="image/png"/>
  <Override PartName="/ppt/media/image12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1.png" ContentType="image/png"/>
  <Override PartName="/ppt/media/image29.wmf" ContentType="image/x-wmf"/>
  <Override PartName="/ppt/media/image31.png" ContentType="image/png"/>
  <Override PartName="/ppt/media/image68.png" ContentType="image/png"/>
  <Override PartName="/ppt/media/image21.png" ContentType="image/png"/>
  <Override PartName="/ppt/media/image58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1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66.png" ContentType="image/png"/>
  <Override PartName="/ppt/media/image25.png" ContentType="image/png"/>
  <Override PartName="/ppt/media/image62.png" ContentType="image/png"/>
  <Override PartName="/ppt/media/image82.wmf" ContentType="image/x-wmf"/>
  <Override PartName="/ppt/media/image79.png" ContentType="image/png"/>
  <Override PartName="/ppt/media/image67.png" ContentType="image/png"/>
  <Override PartName="/ppt/media/image77.wmf" ContentType="image/x-wmf"/>
  <Override PartName="/ppt/media/image76.png" ContentType="image/png"/>
  <Override PartName="/ppt/media/image75.png" ContentType="image/png"/>
  <Override PartName="/ppt/media/image74.png" ContentType="image/png"/>
  <Override PartName="/ppt/media/image73.wmf" ContentType="image/x-wmf"/>
  <Override PartName="/ppt/media/image33.png" ContentType="image/png"/>
  <Override PartName="/ppt/media/image72.png" ContentType="image/png"/>
  <Override PartName="/ppt/media/image71.png" ContentType="image/png"/>
  <Override PartName="/ppt/media/image69.png" ContentType="image/png"/>
  <Override PartName="/ppt/media/image32.png" ContentType="image/png"/>
  <Override PartName="/ppt/media/image70.png" ContentType="image/png"/>
  <Override PartName="/ppt/media/image28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8.png" ContentType="image/png"/>
  <Override PartName="/ppt/media/image38.png" ContentType="image/png"/>
  <Override PartName="/ppt/media/image19.png" ContentType="image/png"/>
  <Override PartName="/ppt/media/image41.wmf" ContentType="image/x-wmf"/>
  <Override PartName="/ppt/media/image3.png" ContentType="image/png"/>
  <Override PartName="/ppt/media/image80.png" ContentType="image/png"/>
  <Override PartName="/ppt/media/image15.png" ContentType="image/png"/>
  <Override PartName="/ppt/media/image27.png" ContentType="image/png"/>
  <Override PartName="/ppt/media/image34.png" ContentType="image/png"/>
  <Override PartName="/ppt/media/image7.jpeg" ContentType="image/jpeg"/>
  <Override PartName="/ppt/media/image4.png" ContentType="image/png"/>
  <Override PartName="/ppt/media/image81.png" ContentType="image/png"/>
  <Override PartName="/ppt/media/image16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78.wmf" ContentType="image/x-wmf"/>
  <Override PartName="/ppt/media/image10.png" ContentType="image/png"/>
  <Override PartName="/ppt/media/image47.png" ContentType="image/png"/>
  <Override PartName="/ppt/media/image36.png" ContentType="image/png"/>
  <Override PartName="/ppt/media/image20.png" ContentType="image/png"/>
  <Override PartName="/ppt/media/image57.png" ContentType="image/png"/>
  <Override PartName="/ppt/media/image11.png" ContentType="image/png"/>
  <Override PartName="/ppt/media/image48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docx" ContentType="application/vnd.openxmlformats-officedocument.wordprocessingml.document"/>
  <Override PartName="/ppt/embeddings/oleObject3.bin" ContentType="application/vnd.openxmlformats-officedocument.oleObject"/>
  <Override PartName="/ppt/embeddings/oleObject1.docx" ContentType="application/vnd.openxmlformats-officedocument.wordprocessingml.document"/>
  <Override PartName="/ppt/embeddings/oleObject7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2.docx" ContentType="application/vnd.openxmlformats-officedocument.wordprocessingml.document"/>
  <Override PartName="/ppt/embeddings/oleObject6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9144000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1B54-A1EE-49F7-89AC-05B0C5A6F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77880"/>
            <a:ext cx="7772400" cy="12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201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59000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9FA6-E821-4449-829B-29E3292C3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77880"/>
            <a:ext cx="7772400" cy="12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201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201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5900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5900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F3B6-8BD2-4404-8BCA-54D28DB42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77880"/>
            <a:ext cx="7772400" cy="12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201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201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201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59000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59000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59000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0B9D-2797-4C58-9815-6FE3C0220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77880"/>
            <a:ext cx="7772400" cy="12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20176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A7E2-1993-43C7-A903-A40D61E8A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77880"/>
            <a:ext cx="7772400" cy="12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20176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76B9-6BB5-4EAC-BE54-A00C15956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77880"/>
            <a:ext cx="7772400" cy="12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20176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20176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FA9B-BFB1-407F-BE98-9E4744FF6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77880"/>
            <a:ext cx="7772400" cy="12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D8F0-D80A-46BD-B24D-05340EFF1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77880"/>
            <a:ext cx="777240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EC54-3D87-4553-A0C1-2FE29C8A7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77880"/>
            <a:ext cx="7772400" cy="12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201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20176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5900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B605-4E61-4ECB-86DE-1AB18BC46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77880"/>
            <a:ext cx="7772400" cy="12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20176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201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5900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A455-956E-45F6-9795-BD43E97ED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77880"/>
            <a:ext cx="7772400" cy="12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201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201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59000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7BDE-3509-46D9-9EA4-51208D3C5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77880"/>
            <a:ext cx="7772400" cy="12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20176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941880"/>
            <a:ext cx="190512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941880"/>
            <a:ext cx="28958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941880"/>
            <a:ext cx="190512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F6EB4-68FD-4DA7-A064-39A6519336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png"/><Relationship Id="rId5" Type="http://schemas.openxmlformats.org/officeDocument/2006/relationships/package" Target="../embeddings/oleObject3.docx"/><Relationship Id="rId6" Type="http://schemas.openxmlformats.org/officeDocument/2006/relationships/image" Target="../media/image29.wmf"/><Relationship Id="rId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5.png"/><Relationship Id="rId6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7.png"/><Relationship Id="rId5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9.png"/><Relationship Id="rId5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image" Target="../media/image53.png"/><Relationship Id="rId5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image" Target="../media/image57.png"/><Relationship Id="rId5" Type="http://schemas.openxmlformats.org/officeDocument/2006/relationships/image" Target="../media/image58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60.pn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64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5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6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7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8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69.png"/><Relationship Id="rId17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image" Target="../media/image72.png"/><Relationship Id="rId3" Type="http://schemas.openxmlformats.org/officeDocument/2006/relationships/package" Target="../embeddings/oleObject1.docx"/><Relationship Id="rId4" Type="http://schemas.openxmlformats.org/officeDocument/2006/relationships/image" Target="../media/image73.wmf"/><Relationship Id="rId5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image" Target="../media/image75.png"/><Relationship Id="rId3" Type="http://schemas.openxmlformats.org/officeDocument/2006/relationships/image" Target="../media/image76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7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78.wmf"/><Relationship Id="rId5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80.png"/><Relationship Id="rId3" Type="http://schemas.openxmlformats.org/officeDocument/2006/relationships/image" Target="../media/image81.png"/><Relationship Id="rId4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209680" y="1295280"/>
            <a:ext cx="541044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REDES DE AREA LOCAL</a:t>
            </a:r>
            <a:endParaRPr b="0" lang="en-US" sz="4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352680" y="457200"/>
            <a:ext cx="19814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UNIDAD 2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43" name=""/>
          <p:cNvSpPr/>
          <p:nvPr/>
        </p:nvSpPr>
        <p:spPr>
          <a:xfrm>
            <a:off x="1278000" y="3241800"/>
            <a:ext cx="3100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GEND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rquitectura IEEE 8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th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pet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ast Eth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uentes, LAN Switc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oken Ring y FD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609480" y="5587920"/>
            <a:ext cx="815364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" y="914400"/>
            <a:ext cx="8153280" cy="601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5800" y="990720"/>
            <a:ext cx="7543800" cy="52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Operación full-dupl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e deshabilita el CSMA/C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La velocidad se duplica (20 Mbps, 200 Mbps, etc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oportado en: 10Base-T, 10Base-FL, 100Base-FX, 100Base-T2, 1000Base-C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1000Base-SX, 1000Base-LS y 1000Base-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No soportado en: 10Base5, 10Base2, 10Base FB y 100Base-T4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Restringido a enlaces punto a punto entre dos esta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mbas estaciones deben soportar la operación full dúplex en los NI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ermite el control de flujo con tramas de control llamadas “PAUSE”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ermite la facilidad de Agregación de enlace o “trunking” que permite operar múltiples enlaces físicos como uno lógico para aumentar el ancho de band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33520" y="38088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2.2. Eth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I.- Redes LA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129B-A3A2-47DD-9FD2-2FDB7B7E3839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.T. de Mérida, DIEE, Agosto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09480" y="5587920"/>
            <a:ext cx="815364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533160" y="3580920"/>
            <a:ext cx="80010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. Preámbulo .- Es un tren de bits que permite la sincronización del receptor (1010101s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FD. Inicio de trama.- Le indican al receptor el inicio de una tram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 y SA.  Dirección de destino y origen. 2 o 6 by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N- Indica la longitud del área de dat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ipo.  Indica el protocolo de la capa superio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os.- Datos del usuario  (PDU de  LLC o de un protocolo de r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D.  Relleno.- Se utiliza cuando el tamaño de la trama no cumple el tamaño mínimo permiti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CS.- CRC de 32 b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905120" y="1295280"/>
            <a:ext cx="5790960" cy="18766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840600" y="1295280"/>
            <a:ext cx="80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cte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" y="914400"/>
            <a:ext cx="8153280" cy="601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33520" y="45720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2.2. Ethernet. Formato de Tr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I.- Redes LA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8BDD-64DF-4640-9156-309E6B199C0D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.T. de Mérida, DIEE, Agosto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457200" y="3808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2.2 Ethernet. Capa fís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5587920"/>
            <a:ext cx="815364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533160" y="2819520"/>
            <a:ext cx="8001000" cy="22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Nomenclatura para redes Etherne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La velocidad de operación. 10 para 10Mbps , 100 para 100Mbp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l tipo de señalización: en banda base (BASE) o en banda ancha (BROAD). En banda base el código utilizado es el Manchester, excepto en el 10Base-F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l tamaño aproximado de un segmento, dado en cientos de metros. (5 = 500 m). La notación no se cumple en 10BASE-T y F, en donde T significa par trenzado y F indica que se usa la fibra óptic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981080" y="5105520"/>
            <a:ext cx="5105520" cy="11239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3282840" y="6324480"/>
            <a:ext cx="226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ñalización  Manche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914400"/>
            <a:ext cx="8153280" cy="601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1676520" y="1143000"/>
            <a:ext cx="5715000" cy="1219320"/>
            <a:chOff x="1676520" y="1143000"/>
            <a:chExt cx="5715000" cy="1219320"/>
          </a:xfrm>
        </p:grpSpPr>
        <p:grpSp>
          <p:nvGrpSpPr>
            <p:cNvPr id="123" name=""/>
            <p:cNvGrpSpPr/>
            <p:nvPr/>
          </p:nvGrpSpPr>
          <p:grpSpPr>
            <a:xfrm>
              <a:off x="1676520" y="1828800"/>
              <a:ext cx="5715000" cy="533520"/>
              <a:chOff x="1676520" y="1828800"/>
              <a:chExt cx="5715000" cy="533520"/>
            </a:xfrm>
          </p:grpSpPr>
          <p:sp>
            <p:nvSpPr>
              <p:cNvPr id="124" name=""/>
              <p:cNvSpPr/>
              <p:nvPr/>
            </p:nvSpPr>
            <p:spPr>
              <a:xfrm>
                <a:off x="1676520" y="1828800"/>
                <a:ext cx="1143000" cy="533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677600" y="1955880"/>
                <a:ext cx="1028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100Base5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200400" y="1828800"/>
                <a:ext cx="1143000" cy="533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248520" y="1828800"/>
                <a:ext cx="1143000" cy="533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724640" y="1828800"/>
                <a:ext cx="1143000" cy="533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201480" y="1955880"/>
                <a:ext cx="1072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100Base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4802040" y="1955880"/>
                <a:ext cx="903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10Base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326280" y="1955880"/>
                <a:ext cx="892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10BaseF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" name=""/>
            <p:cNvGrpSpPr/>
            <p:nvPr/>
          </p:nvGrpSpPr>
          <p:grpSpPr>
            <a:xfrm>
              <a:off x="2988000" y="1143000"/>
              <a:ext cx="3051000" cy="533520"/>
              <a:chOff x="2988000" y="1143000"/>
              <a:chExt cx="3051000" cy="533520"/>
            </a:xfrm>
          </p:grpSpPr>
          <p:sp>
            <p:nvSpPr>
              <p:cNvPr id="133" name=""/>
              <p:cNvSpPr/>
              <p:nvPr/>
            </p:nvSpPr>
            <p:spPr>
              <a:xfrm>
                <a:off x="2990880" y="1143000"/>
                <a:ext cx="3048120" cy="533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  <a:effectLst>
                <a:outerShdw dist="153753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88000" y="1295280"/>
                <a:ext cx="30441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ontrol de Acceso al Medio CSMA/C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I.- Redes LA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4CE9-EF7A-464E-8D42-41B9AC4DEEFE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.T. de Mérida, DIEE, Agosto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609480" y="5587920"/>
            <a:ext cx="815364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609120" y="3581280"/>
            <a:ext cx="8001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Medio de transmisión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.- Opciones: Cable coaxial, par trenzado o fibra óptic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egmento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.- Es el medio de transmisión en el que la señal no se regene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nterfaz Dependiente del Medio (MDI)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.- Es la pieza de hardware que hace la conexión directa al cable de red, es decir, son los conectores BNC, RJ-45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Unidad de Acceso al Medio (MAU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).- Transceiver que transmite y recibe las señales del medio, tanto de datos como de colision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nterfaz de la Unidad de Acceso (AUI).-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Cable del transceiver al DTE que lleva  los datos e indicación de colisiones y la energía para el MAU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quipo Terminal de Datos (DTE).-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Es el equipo con la tarjeta interfaz de red (NI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2362320" y="1066680"/>
            <a:ext cx="4647960" cy="23068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457200" y="914400"/>
            <a:ext cx="8153280" cy="601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" y="3808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2.2 Ethernet. Capa física, nomencla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I.- Redes LA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F2A1-CEC0-4F40-804D-44EE936036F9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.T. de Mérida, DIEE, Agosto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609480" y="5587920"/>
            <a:ext cx="815364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57200" y="914400"/>
            <a:ext cx="8153280" cy="601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" y="3808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2.2 Ethernet. Capa física. 10Base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1066680"/>
            <a:ext cx="800100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Ventaja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Gran cobertura  para usarse como backb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able con poca atenuación y excelente blindaj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esventaj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fícil de guiar por su inflexibilida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pertura en el bus ocasiona una falla tot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fícil administ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usceptible a lazos de tier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837000" y="3809880"/>
            <a:ext cx="6782760" cy="2598840"/>
            <a:chOff x="837000" y="3809880"/>
            <a:chExt cx="6782760" cy="2598840"/>
          </a:xfrm>
        </p:grpSpPr>
        <p:graphicFrame>
          <p:nvGraphicFramePr>
            <p:cNvPr id="145" name=""/>
            <p:cNvGraphicFramePr/>
            <p:nvPr/>
          </p:nvGraphicFramePr>
          <p:xfrm>
            <a:off x="1676160" y="3886200"/>
            <a:ext cx="5943600" cy="25225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4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676160" y="3886200"/>
                      <a:ext cx="5943600" cy="2522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7" name=""/>
            <p:cNvSpPr/>
            <p:nvPr/>
          </p:nvSpPr>
          <p:spPr>
            <a:xfrm>
              <a:off x="2506320" y="3809880"/>
              <a:ext cx="3007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Longitud máxima del segmento =500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124000" y="4114800"/>
              <a:ext cx="3803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Máximo número de estaciones por segmento =1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968560" y="5486400"/>
              <a:ext cx="18511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istancia mínima ent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os estaciones = 2.5 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18680" y="6095880"/>
              <a:ext cx="292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iámetro máximo de la red = 2,800 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942520" y="464832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epetid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37000" y="4572000"/>
              <a:ext cx="102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Terminad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399720" y="4343400"/>
              <a:ext cx="102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Terminad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517120" y="4724280"/>
              <a:ext cx="59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MA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 flipV="1">
              <a:off x="2361600" y="457164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659400" y="4572000"/>
              <a:ext cx="496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U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3429000" y="472428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I.- Redes LA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7B59-2F31-4E84-B434-2FE338C963F6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.T. de Mérida, DIEE, Agosto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609480" y="5587920"/>
            <a:ext cx="815364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57200" y="914400"/>
            <a:ext cx="8153280" cy="601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" y="3808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2.2 Ethernet. Capa física. 10Base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457200" y="914400"/>
            <a:ext cx="4724280" cy="2862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2" name=""/>
          <p:cNvGraphicFramePr/>
          <p:nvPr/>
        </p:nvGraphicFramePr>
        <p:xfrm>
          <a:off x="5715000" y="990720"/>
          <a:ext cx="2505240" cy="3590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15000" y="990720"/>
                    <a:ext cx="2505240" cy="359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"/>
          <p:cNvSpPr/>
          <p:nvPr/>
        </p:nvSpPr>
        <p:spPr>
          <a:xfrm>
            <a:off x="533520" y="4800600"/>
            <a:ext cx="8001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Topología de Bu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able grueso (1cm diámetro), impedancia característica de 50 ohms (RG 8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able con cubierta exterior de PVC (color amarillo) o Teflón (color naranja-café) para exterior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Terminadores tipo N de 50 ohms en cada extremo evitan reflexiones de la señ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olamente una de las terminaciones deberá aterrizars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I.- Redes LA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4575-7B6A-48ED-8F2B-C4B11ADDEC98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.T. de Mérida, DIEE, Agosto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5587920"/>
            <a:ext cx="815364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723920" y="990720"/>
            <a:ext cx="396252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Topología en bu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able delgado (0.5 cm), flexible y puede ser dirigible hasta la P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Barato pero difícil de administra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UI, MAU y MDI intern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oaxial  RG 58 A/U, RG 58 C/U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terrizado en un extrem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609480" y="1015920"/>
            <a:ext cx="4114800" cy="24037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457200" y="914400"/>
            <a:ext cx="8153280" cy="601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" y="3808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2.2 Ethernet. Capa física. 10 Bas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608400" y="3886200"/>
            <a:ext cx="7240320" cy="2625840"/>
            <a:chOff x="608400" y="3886200"/>
            <a:chExt cx="7240320" cy="2625840"/>
          </a:xfrm>
        </p:grpSpPr>
        <p:graphicFrame>
          <p:nvGraphicFramePr>
            <p:cNvPr id="171" name=""/>
            <p:cNvGraphicFramePr/>
            <p:nvPr/>
          </p:nvGraphicFramePr>
          <p:xfrm>
            <a:off x="1371600" y="3962520"/>
            <a:ext cx="6477120" cy="25495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7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371600" y="3962520"/>
                      <a:ext cx="6477120" cy="2549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3" name=""/>
            <p:cNvSpPr/>
            <p:nvPr/>
          </p:nvSpPr>
          <p:spPr>
            <a:xfrm>
              <a:off x="2966760" y="6172200"/>
              <a:ext cx="278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iámetro máximo de la red = 925 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290320" y="3886200"/>
              <a:ext cx="3052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Longitud máxima del segmento =185 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895760" y="4114800"/>
              <a:ext cx="3803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Máximo número de estaciones por segmento =1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247440" y="4419720"/>
              <a:ext cx="102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Terminad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08400" y="4724280"/>
              <a:ext cx="102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Terminad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095160" y="472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epetid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892240" y="5638680"/>
              <a:ext cx="18511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istancia mínima ent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os estaciones = 0.5 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I.- Redes LA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6C13-8CD1-443C-B0DB-78329B3C4E1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.T. de Mérida, DIEE, Agosto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761760" y="4343040"/>
            <a:ext cx="70866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Topología: Estrell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Nodo central : Concentrador o H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Medio: par trenzado UTP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Gran aceptación en edificios de oficinas por su fácil administración bajo las normas de cableado estructura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Longitud máxima del segmento: 100 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Longitud máxima de la red: Determinada por la regla de repeti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457200" y="914400"/>
            <a:ext cx="4724280" cy="306216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457200" y="914400"/>
            <a:ext cx="8153280" cy="601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57200" y="3808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2.2 Ethernet. Capa física. 10 Base-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5181480" y="990720"/>
          <a:ext cx="3292560" cy="3471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181480" y="990720"/>
                    <a:ext cx="3292560" cy="347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I.- Redes LA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2F51-4223-486D-818C-BF5871B9FA17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.T. de Mérida, DIEE, Agosto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914040" y="1143000"/>
            <a:ext cx="487692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Ventaja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Tolerante a fallos. Particionado de segment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Fácil de monitoreo de fall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s fácil mover las estaciones y hacer cambi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mplea cableado común y bara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esventaj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stancia máxima a la estación de solo 100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l cable UTP la hace sensible al rui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57200" y="914400"/>
            <a:ext cx="8153280" cy="601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57200" y="3808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2.2 Ethernet. Capa física. 10 Base-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5791320" y="1752480"/>
          <a:ext cx="2743200" cy="153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1320" y="1752480"/>
                    <a:ext cx="2743200" cy="15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1" name=""/>
          <p:cNvGraphicFramePr/>
          <p:nvPr/>
        </p:nvGraphicFramePr>
        <p:xfrm>
          <a:off x="1143000" y="4800600"/>
          <a:ext cx="2276640" cy="1542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4800600"/>
                    <a:ext cx="2276640" cy="15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3" name=""/>
          <p:cNvGraphicFramePr/>
          <p:nvPr/>
        </p:nvGraphicFramePr>
        <p:xfrm>
          <a:off x="3962520" y="4191120"/>
          <a:ext cx="4038480" cy="2590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962520" y="4191120"/>
                    <a:ext cx="4038480" cy="25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I.- Redes LA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5F66-6E6F-4587-8093-4E8F0560A91C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.T. de Mérida, DIEE, Agosto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609480" y="5587920"/>
            <a:ext cx="815364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609480" y="4495320"/>
            <a:ext cx="7848720" cy="19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Fibra óptica MMD (62.5/125) en la ventana de 850 n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MAU exter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onectores del tipo ST (ej. BFOC/2.5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Tres variantes : 10BASEFP, </a:t>
            </a: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10BASEFL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y 10BASEFB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10BASEFL es el más usado y sustituye a la especificación FOIR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specifica un enlace asíncrono punto-punto de 2 km máximo (1 km en FOIR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2362320" y="990720"/>
            <a:ext cx="4647960" cy="313200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457200" y="914400"/>
            <a:ext cx="8153280" cy="601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" y="3808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2.2 Ethernet. Capa física. 10 Base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I.- Redes LA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C390-C1B7-4611-BD8D-F67272C4CC2E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.T. de Mérida, DIEE, Agosto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932040"/>
            <a:ext cx="7772400" cy="19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odelo de referencia de IEEE 8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vide la capa de enlace de datos e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LC (Control lógico del enlace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C (Control de acceso al medi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38088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2.1 Arquitectura IEEE 8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876920" y="932040"/>
            <a:ext cx="3809880" cy="30574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2971800"/>
            <a:ext cx="3962160" cy="10526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303200" y="25909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to de trama MAC genér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4114800"/>
            <a:ext cx="7848720" cy="24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Control lógico del enlace (LLC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roporciona a las capas superiores conectividad en una LAN sin importar las características dela subcapa MAC utilizad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ermite identificar múltiples protocolos de red mediante los SAP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Servicios ofrecidos por LL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Tipo 1. Sin conexión y sin reconocimientos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( El más usad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Tipo 2. Con conex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Tipo 3. Sin conexión y con reconocimien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914400"/>
            <a:ext cx="8153280" cy="601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I.- Redes LA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EDCF-8F77-4566-81DC-88D9CE924B2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.T. de Mérida, DIEE, Agosto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457200" y="3808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2.3 Ethernet. 10 Mb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09480" y="5587920"/>
            <a:ext cx="815364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57200" y="914400"/>
            <a:ext cx="8153280" cy="601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3581280" y="5791320"/>
          <a:ext cx="5010120" cy="106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1280" y="5791320"/>
                    <a:ext cx="501012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5" name=""/>
          <p:cNvGraphicFramePr/>
          <p:nvPr/>
        </p:nvGraphicFramePr>
        <p:xfrm>
          <a:off x="762120" y="3352680"/>
          <a:ext cx="5364000" cy="2038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3352680"/>
                    <a:ext cx="5364000" cy="20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7" name=""/>
          <p:cNvGraphicFramePr/>
          <p:nvPr/>
        </p:nvGraphicFramePr>
        <p:xfrm>
          <a:off x="1295280" y="990720"/>
          <a:ext cx="6915240" cy="247644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95280" y="990720"/>
                    <a:ext cx="6915240" cy="24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I.- Redes LA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5423-8C6C-4142-BDDE-BBDA9AFE2441}" type="slidenum">
              <a:t>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.T. de Mérida, DIEE, Agosto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457200" y="3808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2.3 Repetidor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09480" y="5587920"/>
            <a:ext cx="815364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533520" y="932040"/>
            <a:ext cx="8153280" cy="38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Operan en la capa física del modelo OS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ueden ser de dos puertos o multipuert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u función es regenerar o amplificar la señal (tramas o colisiones ) que llegan a uno de sus puertos y repetirla en los demá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ominio de colisión: región en la que las colisiones son vistas por tod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Los repetidores mantienen el dominio de colisió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Los repetidores deben conectarse de tal manera que los segmentos que una, no formen lazos cerrad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ebido a que operan en la capa física, no tienen mucho procesamiento y por ello son los dispositivos de interconexión más rápid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lgunos tienen la capacidad para inhabilitar alguno de sus puertos ante fallas (Particionado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3048120" y="4876920"/>
            <a:ext cx="3124080" cy="18050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457200" y="914400"/>
            <a:ext cx="8153280" cy="601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I.- Redes LA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D073-D965-4A2F-9C29-E631C378061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.T. de Mérida, DIEE, Agosto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457200" y="3808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2.3 Repetidor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533520" y="932040"/>
            <a:ext cx="8153280" cy="27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Reglas de repetidor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Segmentos de enlace. No tienen estaciones excepto por los repeti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Segmentos mezclados. Contienen estacion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gla 5-4-3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 Estaciones cualesquiera pueden estar conectados hasta por 5 segmentos, 4 repetidores, en donde 3 de los segmentos pueden ser segmentos mezclados y 2 segmentos de enlac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uando la ruta consiste de 3 repetidores y 4 segmentos,  los 4 segmentos pueden tener estacion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2514600" y="3962520"/>
            <a:ext cx="4267080" cy="297468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457200" y="914400"/>
            <a:ext cx="8153280" cy="601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I.- Redes LA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F18C-48FF-4998-814C-053948AE4820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.T. de Mérida, DIEE, Agosto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457200" y="4572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2.4 Fast Ethern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09480" y="5587920"/>
            <a:ext cx="815364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533520" y="25905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Topología: estrell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obertura reducida debido al protocolo MAC más que por la atenua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roporciona una fácil migración de las redes de 10 Mbps mediante la capacidad de Autonegociación de los dispositiv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Repetidores (Hub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lase 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Un solo repetidor I por dominio de colisión. Diámetro máximo de 200 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fectúa traslación de señaliza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lase II-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Máximo dos repetidores máximos por dominio de colisió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ámetro máximo de 205 m. (5 m para interconexión de repetidor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No efectúa conversión de señaliza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57200" y="914400"/>
            <a:ext cx="8153280" cy="601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2438280" y="1143000"/>
            <a:ext cx="4191120" cy="1219320"/>
            <a:chOff x="2438280" y="1143000"/>
            <a:chExt cx="4191120" cy="1219320"/>
          </a:xfrm>
        </p:grpSpPr>
        <p:sp>
          <p:nvSpPr>
            <p:cNvPr id="223" name=""/>
            <p:cNvSpPr/>
            <p:nvPr/>
          </p:nvSpPr>
          <p:spPr>
            <a:xfrm>
              <a:off x="2438280" y="1828800"/>
              <a:ext cx="1143000" cy="5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439360" y="1955880"/>
              <a:ext cx="1107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00BaseT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962520" y="1828800"/>
              <a:ext cx="1143000" cy="5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486400" y="1828800"/>
              <a:ext cx="1143000" cy="5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963240" y="1955880"/>
              <a:ext cx="109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00BaseF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487480" y="1955880"/>
              <a:ext cx="1107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00BaseT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9" name=""/>
            <p:cNvGrpSpPr/>
            <p:nvPr/>
          </p:nvGrpSpPr>
          <p:grpSpPr>
            <a:xfrm>
              <a:off x="2988000" y="1143000"/>
              <a:ext cx="3051000" cy="533520"/>
              <a:chOff x="2988000" y="1143000"/>
              <a:chExt cx="3051000" cy="533520"/>
            </a:xfrm>
          </p:grpSpPr>
          <p:sp>
            <p:nvSpPr>
              <p:cNvPr id="230" name=""/>
              <p:cNvSpPr/>
              <p:nvPr/>
            </p:nvSpPr>
            <p:spPr>
              <a:xfrm>
                <a:off x="2990880" y="1143000"/>
                <a:ext cx="3048120" cy="533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  <a:effectLst>
                <a:outerShdw dist="153753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2988000" y="1295280"/>
                <a:ext cx="30441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ontrol de Acceso al Medio CSMA/C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I.- Redes LA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335C-F96C-4A82-BC99-840E3D97B128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.T. de Mérida, DIEE, Agosto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457200" y="4572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2.4 Fast Ethernet. 100Base-TX y F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09480" y="5587920"/>
            <a:ext cx="815364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457200" y="914400"/>
            <a:ext cx="3809880" cy="230184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4343400" y="3429000"/>
            <a:ext cx="4114800" cy="280044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533520" y="3733920"/>
            <a:ext cx="3763800" cy="128736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826920" y="5572080"/>
            <a:ext cx="3111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eñalización MLT3 en 100Base T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Espectro &lt; 30 MH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Nivel de DC =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807440" y="6248520"/>
            <a:ext cx="321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arte de la señalización 4B/5B-NRZ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Tasa de señalización= 125 Mbau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4572000" y="914400"/>
          <a:ext cx="4071960" cy="2352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572000" y="914400"/>
                    <a:ext cx="4071960" cy="23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1" name=""/>
          <p:cNvSpPr/>
          <p:nvPr/>
        </p:nvSpPr>
        <p:spPr>
          <a:xfrm>
            <a:off x="457200" y="914400"/>
            <a:ext cx="8153280" cy="601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I.- Redes LA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A4EA-BB0D-46AB-B99E-B03EB39E7E8D}" type="slidenum">
              <a:t>2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.T. de Mérida, DIEE, Agosto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609480" y="5587920"/>
            <a:ext cx="815364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457200" y="914400"/>
            <a:ext cx="4753080" cy="2751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4" name=""/>
          <p:cNvGraphicFramePr/>
          <p:nvPr/>
        </p:nvGraphicFramePr>
        <p:xfrm>
          <a:off x="7010280" y="2286000"/>
          <a:ext cx="1546200" cy="2065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10280" y="2286000"/>
                    <a:ext cx="1546200" cy="206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46" name="" descr=""/>
          <p:cNvPicPr/>
          <p:nvPr/>
        </p:nvPicPr>
        <p:blipFill>
          <a:blip r:embed="rId4"/>
          <a:stretch/>
        </p:blipFill>
        <p:spPr>
          <a:xfrm>
            <a:off x="533520" y="3809880"/>
            <a:ext cx="3886200" cy="202104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618120" y="5943600"/>
            <a:ext cx="4356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- 8B6T= 8 símbolos binarios a 6 símbolos ternari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- Nivel de DC =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- Su espectro cabe en un Cat 3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57200" y="914400"/>
            <a:ext cx="8153280" cy="601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5334120" y="914400"/>
            <a:ext cx="3276360" cy="1295280"/>
            <a:chOff x="5334120" y="914400"/>
            <a:chExt cx="3276360" cy="1295280"/>
          </a:xfrm>
        </p:grpSpPr>
        <p:sp>
          <p:nvSpPr>
            <p:cNvPr id="250" name=""/>
            <p:cNvSpPr/>
            <p:nvPr/>
          </p:nvSpPr>
          <p:spPr>
            <a:xfrm>
              <a:off x="5486040" y="1066680"/>
              <a:ext cx="609480" cy="1067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619760" y="1066680"/>
              <a:ext cx="609120" cy="1067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095880" y="1295280"/>
              <a:ext cx="152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487480" y="13716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621560" y="1143000"/>
              <a:ext cx="662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P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HU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>
              <a:off x="6095880" y="1981080"/>
              <a:ext cx="152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095880" y="1523880"/>
              <a:ext cx="152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095880" y="1752480"/>
              <a:ext cx="152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630120" y="1066680"/>
              <a:ext cx="37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T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630120" y="1752480"/>
              <a:ext cx="38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R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630120" y="1295280"/>
              <a:ext cx="349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B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630120" y="1523880"/>
              <a:ext cx="349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B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334120" y="914400"/>
              <a:ext cx="3276360" cy="12952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4800600" y="4419720"/>
            <a:ext cx="3679560" cy="2437920"/>
            <a:chOff x="4800600" y="4419720"/>
            <a:chExt cx="3679560" cy="2437920"/>
          </a:xfrm>
        </p:grpSpPr>
        <p:pic>
          <p:nvPicPr>
            <p:cNvPr id="264" name="" descr=""/>
            <p:cNvPicPr/>
            <p:nvPr/>
          </p:nvPicPr>
          <p:blipFill>
            <a:blip r:embed="rId5"/>
            <a:stretch/>
          </p:blipFill>
          <p:spPr>
            <a:xfrm>
              <a:off x="4800600" y="4419720"/>
              <a:ext cx="3679560" cy="243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7644240" y="4723200"/>
              <a:ext cx="813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33 Mbp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644240" y="5229720"/>
              <a:ext cx="813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33 Mbp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644240" y="6140880"/>
              <a:ext cx="813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33 Mbp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457200" y="4572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2.4 Fast Ethernet. 100Base-T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I.- Redes LA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7367-9EC3-4001-91DF-3A3492CD0C7F}" type="slidenum">
              <a:t>2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.T. de Mérida, DIEE, Agosto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533520" y="3808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2.4 Fast Ethernet.Dominios de colisión y autonegoci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5587920"/>
            <a:ext cx="815364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57200" y="914400"/>
            <a:ext cx="8153280" cy="601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059480" y="5410080"/>
            <a:ext cx="7101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Las dispositivos 10/100 Mbps efectúan la Autonegociación, a través de u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erie de pulsos (NLP) entre tramas, en la cual acuerdan transmitir a l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apacidad máxima  a la que ambos pueden hacerl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839160" y="4572000"/>
            <a:ext cx="245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utonegoci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816840" y="1066680"/>
            <a:ext cx="7415280" cy="3733920"/>
            <a:chOff x="816840" y="1066680"/>
            <a:chExt cx="7415280" cy="3733920"/>
          </a:xfrm>
        </p:grpSpPr>
        <p:graphicFrame>
          <p:nvGraphicFramePr>
            <p:cNvPr id="275" name=""/>
            <p:cNvGraphicFramePr/>
            <p:nvPr/>
          </p:nvGraphicFramePr>
          <p:xfrm>
            <a:off x="990720" y="1390680"/>
            <a:ext cx="7029360" cy="340992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27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990720" y="1390680"/>
                      <a:ext cx="7029360" cy="3409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77" name=""/>
            <p:cNvSpPr/>
            <p:nvPr/>
          </p:nvSpPr>
          <p:spPr>
            <a:xfrm>
              <a:off x="816840" y="1066680"/>
              <a:ext cx="741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Distancias máximas de dominio de colisión para Fast Ethernet half dúpl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I.- Redes LA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1C5A-347E-438E-B4C4-CED071315556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.T. de Mérida, DIEE, Agosto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457200" y="38088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2.4 Gigabit Eh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533520" y="2819160"/>
            <a:ext cx="80769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aracterísti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Topología en estrell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Un solo repetidor en el dominio de colis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SMA/CD con algunas modifica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Medios de transmisión: fibra óptica, twinax, par trenz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Normalmente opera en full-dúplex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oporta Agrupación de enla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Maneja control de fluj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apa física basada en el estándar de Canal de Fib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plicaciones de backbone, conexión a servidor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57200" y="914400"/>
            <a:ext cx="8305920" cy="601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2037960" y="1143000"/>
            <a:ext cx="5715360" cy="1219320"/>
            <a:chOff x="2037960" y="1143000"/>
            <a:chExt cx="5715360" cy="1219320"/>
          </a:xfrm>
        </p:grpSpPr>
        <p:grpSp>
          <p:nvGrpSpPr>
            <p:cNvPr id="282" name=""/>
            <p:cNvGrpSpPr/>
            <p:nvPr/>
          </p:nvGrpSpPr>
          <p:grpSpPr>
            <a:xfrm>
              <a:off x="2037960" y="1828800"/>
              <a:ext cx="5715360" cy="533520"/>
              <a:chOff x="2037960" y="1828800"/>
              <a:chExt cx="5715360" cy="533520"/>
            </a:xfrm>
          </p:grpSpPr>
          <p:sp>
            <p:nvSpPr>
              <p:cNvPr id="283" name=""/>
              <p:cNvSpPr/>
              <p:nvPr/>
            </p:nvSpPr>
            <p:spPr>
              <a:xfrm>
                <a:off x="2038320" y="1828800"/>
                <a:ext cx="1143000" cy="533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2037960" y="1981080"/>
                <a:ext cx="1096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1000BaseC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3562200" y="1828800"/>
                <a:ext cx="1143000" cy="533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6610320" y="1828800"/>
                <a:ext cx="1143000" cy="533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5086440" y="1828800"/>
                <a:ext cx="1143000" cy="533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3561480" y="1981080"/>
                <a:ext cx="1086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1000BaseL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5161680" y="1981080"/>
                <a:ext cx="1076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1000BaseS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6686280" y="1981080"/>
                <a:ext cx="996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1000Base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1" name=""/>
            <p:cNvGrpSpPr/>
            <p:nvPr/>
          </p:nvGrpSpPr>
          <p:grpSpPr>
            <a:xfrm>
              <a:off x="3349440" y="1143000"/>
              <a:ext cx="3134160" cy="533520"/>
              <a:chOff x="3349440" y="1143000"/>
              <a:chExt cx="3134160" cy="533520"/>
            </a:xfrm>
          </p:grpSpPr>
          <p:sp>
            <p:nvSpPr>
              <p:cNvPr id="292" name=""/>
              <p:cNvSpPr/>
              <p:nvPr/>
            </p:nvSpPr>
            <p:spPr>
              <a:xfrm>
                <a:off x="3352680" y="1143000"/>
                <a:ext cx="3048120" cy="533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  <a:effectLst>
                <a:outerShdw dist="153753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3349440" y="1295280"/>
                <a:ext cx="31341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ontrol de Acceso al Medio CSMA/CD*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I.- Redes LA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B5FF-37C7-408E-A0F7-4F1C46613B96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.T. de Mérida, DIEE, Agosto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457200" y="38088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2.4 Gigabit Eherne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/>
          </p:nvPr>
        </p:nvSpPr>
        <p:spPr>
          <a:xfrm>
            <a:off x="609120" y="990360"/>
            <a:ext cx="807732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1000BaseL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Laser de onda larga (1300 nm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Fibra Monomodo SMF (9u) y Multimodo MMF (62.5 u y 50 u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stancia máxima con SMF = 3000 m, MMF=550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onector 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1000BaseS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Láser de onda corta (850 n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Fibra multimodo MMF (62.5 u y 50 u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stancia máxima MMF de 62.5 u =300 m, MMF de 50 u =550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onector 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1000BaseC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Twinax Cable balanceado de cobre blindado (150 ohm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stancia máxima de 25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onector HS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1000Ba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UTP Cat 5  y  conector RJ4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Transmisión en los cuatro par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stancia máxima de 100 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57200" y="914400"/>
            <a:ext cx="8305920" cy="601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I.- Redes LA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0141-6952-428A-A673-505D59EEEA40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.T. de Mérida, DIEE, Agosto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457200" y="38088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2.4 Gigabit Eherne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/>
          </p:nvPr>
        </p:nvSpPr>
        <p:spPr>
          <a:xfrm>
            <a:off x="685440" y="1066320"/>
            <a:ext cx="807732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Codificación de líne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1000Base LX, SX y CX utilizan 8B/10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100Base T utiliza PAM de 5 nive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CSMA/CD variaciones (Half dúp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Longitud de trama mínima de 512 by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xtensión de portadora para tramas menores a 512 by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Transmisión continua. No libera el canal después de transmitir una tram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57200" y="914400"/>
            <a:ext cx="8305920" cy="601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533520" y="4419720"/>
            <a:ext cx="7943760" cy="2838240"/>
            <a:chOff x="533520" y="4419720"/>
            <a:chExt cx="7943760" cy="2838240"/>
          </a:xfrm>
        </p:grpSpPr>
        <p:graphicFrame>
          <p:nvGraphicFramePr>
            <p:cNvPr id="301" name=""/>
            <p:cNvGraphicFramePr/>
            <p:nvPr/>
          </p:nvGraphicFramePr>
          <p:xfrm>
            <a:off x="533520" y="4876920"/>
            <a:ext cx="7943760" cy="238104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30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33520" y="4876920"/>
                      <a:ext cx="7943760" cy="2381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03" name=""/>
            <p:cNvSpPr/>
            <p:nvPr/>
          </p:nvSpPr>
          <p:spPr>
            <a:xfrm>
              <a:off x="664200" y="4419720"/>
              <a:ext cx="77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Distancias máximas de dominio de colisión para Gigabit Ethernet half dúpl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I.- Redes LA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5810-BCD9-44BD-B89A-B095C85F12A9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.T. de Mérida, DIEE, Agosto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33520" y="30492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2.1 Arquitectura IEEE 802. Formato de tr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914400"/>
            <a:ext cx="8153280" cy="601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70320" y="3886200"/>
            <a:ext cx="157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ipos de tram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993600" y="4495680"/>
            <a:ext cx="7371360" cy="2241720"/>
            <a:chOff x="993600" y="4495680"/>
            <a:chExt cx="7371360" cy="2241720"/>
          </a:xfrm>
        </p:grpSpPr>
        <p:graphicFrame>
          <p:nvGraphicFramePr>
            <p:cNvPr id="55" name=""/>
            <p:cNvGraphicFramePr/>
            <p:nvPr/>
          </p:nvGraphicFramePr>
          <p:xfrm>
            <a:off x="2286000" y="4572000"/>
            <a:ext cx="5459040" cy="1657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86000" y="4572000"/>
                      <a:ext cx="5459040" cy="1657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7" name=""/>
            <p:cNvSpPr/>
            <p:nvPr/>
          </p:nvSpPr>
          <p:spPr>
            <a:xfrm>
              <a:off x="993600" y="5790960"/>
              <a:ext cx="1279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o numerad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297080" y="5410080"/>
              <a:ext cx="80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ntr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070640" y="4876560"/>
              <a:ext cx="1183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forma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026680" y="5790960"/>
              <a:ext cx="333828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N(S)= Número de secuencia a envia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N(R)=Número de secuencia reconocid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S= Tramas de control:RR, RNR, REJ, SREJ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M= SABME, UA, DISC, et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830600" y="4495680"/>
              <a:ext cx="47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i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62" name=""/>
          <p:cNvGraphicFramePr/>
          <p:nvPr/>
        </p:nvGraphicFramePr>
        <p:xfrm>
          <a:off x="1447920" y="990720"/>
          <a:ext cx="6449760" cy="3352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7920" y="990720"/>
                    <a:ext cx="64497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I.- Redes LA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6B03-2E47-4430-BEB2-64AA2F4332A9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.T. de Mérida, DIEE, Agosto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457200" y="38088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2.4 Ehernet conectiv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57200" y="914400"/>
            <a:ext cx="8305920" cy="601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533520" y="4343400"/>
            <a:ext cx="5105160" cy="233208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>
            <a:off x="4267080" y="2666880"/>
            <a:ext cx="4114800" cy="19335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3"/>
          <a:stretch/>
        </p:blipFill>
        <p:spPr>
          <a:xfrm>
            <a:off x="533520" y="1066680"/>
            <a:ext cx="3962160" cy="1533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I.- Redes LA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DB69-7D9D-4A19-A43A-2E0504FD75E0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.T. de Mérida, DIEE, Agosto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457200" y="38088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2.5 Pu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/>
          </p:nvPr>
        </p:nvSpPr>
        <p:spPr>
          <a:xfrm>
            <a:off x="533520" y="932040"/>
            <a:ext cx="8076960" cy="57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spositivos de interconexión de redes que operan en la capa 2 de OS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ada puerto del puente es un dominio de colisión. (Sus colisiones no interfiere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Mantienen el dominio de difusión.(Las tramas broadcast no son afectada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Realiza filtrado, conmutación y enrutamiento de tram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Funcionan en modo “store and forward”. Almacenan, analizan y transmit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reados  inicialmente para la interconexión de redes de igual MAC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ctualmente interconectan LANs diferentes (Problemas de conversión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Opera en modo promiscuo, es decir, recibe y analiza todas las tram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Los retardos de procesamiento son mayores que en un repetido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La interconexión de LAN con puentes no debe formar lazos cerrad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¿Por qué usar puent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onfiabilidad.- El funcionamiento deficiente de una red no afecta a ot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esempeño.- Al segmentar un dominio de colisión en varios de menor carg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eguridad.- Se puede hacer filtrado establecido por el administrador de la r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stancia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.- Se rompen las limitaciones de distancia de CSMA/C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57200" y="914400"/>
            <a:ext cx="8305920" cy="601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I.- Redes LA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5B12-4456-49C2-865A-45A742D43CC0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.T. de Mérida, DIEE, Agosto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457200" y="3049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Puentes (cont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533160" y="931680"/>
            <a:ext cx="792468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uncionamiento básic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990720" y="1219320"/>
          <a:ext cx="5248080" cy="314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219320"/>
                    <a:ext cx="5248080" cy="314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6" name=""/>
          <p:cNvSpPr/>
          <p:nvPr/>
        </p:nvSpPr>
        <p:spPr>
          <a:xfrm>
            <a:off x="6096960" y="2438280"/>
            <a:ext cx="267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Las tramas broadca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iempre son retransmiti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57200" y="914400"/>
            <a:ext cx="8305920" cy="601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33520" y="4724280"/>
            <a:ext cx="792468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Tipos de puent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Transparentes.-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Las estaciones no requieren configuración en presencia del puente. Se utiliza en redes Etherne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No Transparentes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.- La estaciones requieren configurarse al agregar un puente. Se utiliza en Token ring.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I.- Redes LA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49E8-5E72-47A5-9C9B-4E4A426CF130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.T. de Mérida, DIEE, Agosto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457200" y="3049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2.5. Puentes. Funcionamiento de puentes transpar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09480" y="990720"/>
            <a:ext cx="441972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 puente construye un tabla de con l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recciones MAC conectadas en c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er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ció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 Transmisión de tra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En base a las direcciones destino (DA) de las tra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i una dirección no está registrada. Se difunde en todos sus puert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 Aprendizaje de direc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Aprende en base a la dirección origen S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57200" y="914400"/>
            <a:ext cx="8305920" cy="601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5181480" y="914400"/>
          <a:ext cx="3573720" cy="363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1480" y="914400"/>
                    <a:ext cx="3573720" cy="363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4" name=""/>
          <p:cNvGraphicFramePr/>
          <p:nvPr/>
        </p:nvGraphicFramePr>
        <p:xfrm>
          <a:off x="5181480" y="4495680"/>
          <a:ext cx="3595680" cy="2479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81480" y="4495680"/>
                    <a:ext cx="3595680" cy="247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I.- Redes LA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BF60-7BCE-4D66-9864-BD14A78AA185}" type="slidenum">
              <a:t>3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.T. de Mérida, DIEE, Agosto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380880" y="4572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2.5 LAN Swi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09480" y="5587920"/>
            <a:ext cx="815364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1828800" y="990720"/>
          <a:ext cx="2306520" cy="172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990720"/>
                    <a:ext cx="2306520" cy="17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0" name=""/>
          <p:cNvGraphicFramePr/>
          <p:nvPr/>
        </p:nvGraphicFramePr>
        <p:xfrm>
          <a:off x="4794120" y="1185840"/>
          <a:ext cx="2216160" cy="1471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94120" y="1185840"/>
                    <a:ext cx="2216160" cy="14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2" name="PlaceHolder 1"/>
          <p:cNvSpPr>
            <a:spLocks noGrp="1"/>
          </p:cNvSpPr>
          <p:nvPr>
            <p:ph/>
          </p:nvPr>
        </p:nvSpPr>
        <p:spPr>
          <a:xfrm>
            <a:off x="609480" y="28954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spositivos con puertos de entrada/salida y una lógica de transmisión definid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Versión moderna de los puent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Mayor número de puertos, mayor procesamiento en hardware (más rápido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La capacidad total de un puerto puede ser dedicada a cada estación (Servidores) o a un grupo de estaciones a través de un hub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ermite el diálogo simultáneo de más de dos conversa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ipos puertos de un swit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e acceso. A el se conectan las estaciones o un hub con varias estacion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e subida. Se conecta al siguiente nivel superior de la red o al servidor. Normalmente es de mayor capacidad que los puertos de acces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57200" y="914400"/>
            <a:ext cx="8153280" cy="601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I.- Redes LA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28B2-7CB6-4CBA-823C-5D68FF306A5E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.T. de Mérida, DIEE, Agosto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380880" y="4572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2.5 LAN Switch. Clasific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9480" y="5587920"/>
            <a:ext cx="815364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/>
          </p:nvPr>
        </p:nvSpPr>
        <p:spPr>
          <a:xfrm>
            <a:off x="60948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Cut-Through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Retransmiten inmediatamente después de leer la dirección destino. Son rápi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ropagan las tramas erróne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No soportan diferentes tecnologías en sus puert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Usado para switches de grupo de trabaj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Store and Forw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Recibe toda la trama y si no tiene errores la retransmiten. Son más len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oportan diferentes tecnologías en sus puertos (10/100 Mbps, Ethernet/FDD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Usado para switches backbon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Híbri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Funcionan en modo Cut Through cuando la tasa de errores es baja, y en modo store and forward cuando la cantidad de errores crec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57200" y="914400"/>
            <a:ext cx="8153280" cy="601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I.- Redes LA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FC30-8B0E-464E-89FE-E65F17ED3A20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.T. de Mérida, DIEE, Agosto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380880" y="4572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2.5 LAN Switch. Clasificación por su capaci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09480" y="5587920"/>
            <a:ext cx="815364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/>
          </p:nvPr>
        </p:nvSpPr>
        <p:spPr>
          <a:xfrm>
            <a:off x="609480" y="10666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Backbon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Interconecta toda la red, el grupo de usuarios con el grupo de servidor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uertos de alta capacidad, redundancia en la alimentación de potenc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onecta a los switches intermedi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Intermed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olecta el tráfico de todos los grupos de trabaj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onecta con switches de grupos de trabajo y con el backb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Grupos de trabaj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onecta con usuarios ya sea por puerto o a través de hubs y con los switchs intermedi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Parámetros de desempeñ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apacidad del Backplane en bits/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apacidad de transmisión de paquetes/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ensidad de puer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Tamaño de la tabla de direcciones (SA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57200" y="914400"/>
            <a:ext cx="8153280" cy="601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I.- Redes LA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8B9A-F652-49A0-9ED0-60B311119042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.T. de Mérida, DIEE, Agosto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/>
          </p:nvPr>
        </p:nvSpPr>
        <p:spPr>
          <a:xfrm>
            <a:off x="457200" y="931680"/>
            <a:ext cx="7772400" cy="59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6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Token Ring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(IEEE 802.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rotocolo de acceso tipo raund robin, basado en el paso de un toke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esarrollada por IBM y ahora estándar IEEE 802.5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Interconexión en anillo pero topología física en estrell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cceso “determinístico”, adecuado para cargas altas de tráfic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oporta el uso de prioridad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rotocolo complejo y robusto. 19 tramas de 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esempeño deficiente para baja carga de tráfic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5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Funcion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l token se encuentra circulando siempre en el anill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Las estaciones que no desean transmitir simplemente repiten el tok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La estación que desea transmitir debe esperar la llegada de un token libre, ponerlo en ocupado y transmitir su trama o tram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La estación destino copia la trama y la retransmi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La estación fuente remueve la trama en su regresa y activa el token libre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57200" y="38088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2.6 Token Ring y FD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57200" y="914400"/>
            <a:ext cx="8305920" cy="601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I.- Redes LA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CCEF-A083-4C05-80FC-AF5783990BDB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.T. de Mérida, DIEE, Agosto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380880" y="3808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2.6 Token 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457200" y="1440000"/>
            <a:ext cx="5105520" cy="205236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2"/>
          <a:stretch/>
        </p:blipFill>
        <p:spPr>
          <a:xfrm>
            <a:off x="5562720" y="1523880"/>
            <a:ext cx="3200400" cy="195768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3"/>
          <a:stretch/>
        </p:blipFill>
        <p:spPr>
          <a:xfrm>
            <a:off x="609480" y="3726000"/>
            <a:ext cx="1765440" cy="219996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4"/>
          <a:stretch/>
        </p:blipFill>
        <p:spPr>
          <a:xfrm>
            <a:off x="2590920" y="3809880"/>
            <a:ext cx="5181480" cy="205272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>
            <a:off x="838080" y="932040"/>
            <a:ext cx="105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jemp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57200" y="914400"/>
            <a:ext cx="8305920" cy="601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I.- Redes LA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E863-AAA0-44AD-8CE1-061C4CD20B05}" type="slidenum">
              <a:t>3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.T. de Mérida, DIEE, Agosto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457200" y="3808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2.6 Token 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/>
          </p:nvPr>
        </p:nvSpPr>
        <p:spPr>
          <a:xfrm>
            <a:off x="685800" y="931680"/>
            <a:ext cx="77724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rmato de tram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tretch/>
        </p:blipFill>
        <p:spPr>
          <a:xfrm>
            <a:off x="2743200" y="1353960"/>
            <a:ext cx="4267080" cy="52884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990720" y="2031840"/>
            <a:ext cx="5943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SD= Delimitador de inicio    DA= Dirección destino        FS= Estado de la tr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AC= Control de acceso         SA= Dirección fu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C= Control de la trama       ED= Delimitador de f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449360" y="3301920"/>
            <a:ext cx="67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Tok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2"/>
          <a:stretch/>
        </p:blipFill>
        <p:spPr>
          <a:xfrm>
            <a:off x="1219320" y="3048120"/>
            <a:ext cx="1143000" cy="26352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3"/>
          <a:stretch/>
        </p:blipFill>
        <p:spPr>
          <a:xfrm>
            <a:off x="3581280" y="3048120"/>
            <a:ext cx="1540080" cy="26352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4"/>
          <a:stretch/>
        </p:blipFill>
        <p:spPr>
          <a:xfrm>
            <a:off x="6400800" y="2963880"/>
            <a:ext cx="1501920" cy="271440"/>
          </a:xfrm>
          <a:prstGeom prst="rect">
            <a:avLst/>
          </a:prstGeom>
          <a:ln w="0">
            <a:noFill/>
          </a:ln>
        </p:spPr>
      </p:pic>
      <p:sp>
        <p:nvSpPr>
          <p:cNvPr id="360" name=""/>
          <p:cNvSpPr/>
          <p:nvPr/>
        </p:nvSpPr>
        <p:spPr>
          <a:xfrm>
            <a:off x="3271680" y="3301920"/>
            <a:ext cx="24818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ampo Control de acceso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PPP= bits de priori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RRR= bits para reserv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T= bit de token libre/ocup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M= bit para monitorear la tr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938920" y="3301920"/>
            <a:ext cx="26571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Delimitador final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, K=  símbolos para transparenc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=  bit de trama interme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= bit de error detec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5"/>
          <a:stretch/>
        </p:blipFill>
        <p:spPr>
          <a:xfrm>
            <a:off x="1143000" y="3894120"/>
            <a:ext cx="1494000" cy="22068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/>
          <p:nvPr/>
        </p:nvSpPr>
        <p:spPr>
          <a:xfrm>
            <a:off x="833040" y="4233960"/>
            <a:ext cx="239976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stado de tra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= bit de dirección reconoci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= bit de trama copia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5079960"/>
            <a:ext cx="7924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FC indica si la trama es de control o de dat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Campo FCS es un CRC de 32 bi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Se pueden establecer hasta 8 niveles de priorida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No hay tamaño de trama mínim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Tamaño máximo de trama depende del tiempo de rotación del token (10 mseg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 4,048 bytes en 4 Mbps y 18,000 a 16 Mbp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7200" y="914400"/>
            <a:ext cx="8305920" cy="601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I.- Redes LA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F285-3AAA-4E01-A0CC-A1A8352149DF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.T. de Mérida, DIEE, Agosto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57200" y="30492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2.1 Arquitectura IEEE 8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5587920"/>
            <a:ext cx="815364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1015920"/>
            <a:ext cx="7772400" cy="33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Direcciones MA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Locales (16 bits) y Universales (48 bi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Tipos de direc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6208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Unicast. Una estació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6208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Broadcast. Todas las estacion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6208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Multicast   Un grupo de estacion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Grabadas en la tarjeta de red (direcciones físicas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ada tarjeta tiene una dirección MAC únic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arte de la dirección la forma el Identificador Unico de Organizaciones (OUI) asignado a los fabricantes de NI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143000" y="4910040"/>
            <a:ext cx="2209680" cy="17049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657600" y="5757840"/>
            <a:ext cx="380700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Ejemplo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8:0:20:b:4a:71  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8:0:20    - ---&gt;   SU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2:60:8C:e:aa:40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2:60:8C  ----&gt;  3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3657600" y="4995720"/>
            <a:ext cx="2163600" cy="5162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311880" y="4894200"/>
            <a:ext cx="12808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= Individu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= Gru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= Univers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= Loc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57200" y="914400"/>
            <a:ext cx="8153280" cy="601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I.- Redes LA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8630-2E73-4F8E-8DE0-22CBA354B44E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.T. de Mérida, DIEE, Agosto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380880" y="380880"/>
            <a:ext cx="609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2.6 Token 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/>
          </p:nvPr>
        </p:nvSpPr>
        <p:spPr>
          <a:xfrm>
            <a:off x="685800" y="932040"/>
            <a:ext cx="7772400" cy="31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Mantenimiento del anil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e elige a una estación monitora activa, las demás son monitoras pasiva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Funciones del moni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Inicialización del anill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Mantenimiento del tok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Vigilar tramas no removid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Inserción de bits de retardo para asegurar que quepa el tok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Topología en estrel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8" name="tr1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295280" y="4038480"/>
            <a:ext cx="3327480" cy="2787840"/>
          </a:xfrm>
          <a:prstGeom prst="rect">
            <a:avLst/>
          </a:prstGeom>
          <a:ln w="0">
            <a:noFill/>
          </a:ln>
        </p:spPr>
      </p:pic>
      <p:pic>
        <p:nvPicPr>
          <p:cNvPr id="369" name="trd01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5029200" y="4038480"/>
            <a:ext cx="2673360" cy="278784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57200" y="914400"/>
            <a:ext cx="8305920" cy="601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I.- Redes LA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EC4F-6787-4D5C-8A15-91A83D0586F6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.T. de Mérida, DIEE, Agosto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380880" y="304920"/>
            <a:ext cx="609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2.6 Token 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/>
          </p:nvPr>
        </p:nvSpPr>
        <p:spPr>
          <a:xfrm>
            <a:off x="685800" y="932040"/>
            <a:ext cx="7772400" cy="47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MSAU o MAU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Unidad de acceso multiestación. Pueden ser pasivas (no se conectan a la toma de corriente) o activa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IBM8218 y 19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6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IBM 8228 MSAU pasivo con 8 puer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Especificación de capa físic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Medio de transmisión: STP (IBM tipo1 y 6), UTP y F.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ódigo de línea: Manchester Diferen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Medio de transmis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TP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UT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Tasa  de datos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4 ó 16 Mbps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4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Máximo número de repetidores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250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7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Máxima longitud entre repetidores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 No especificada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Conector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onector de datos universal (UDC), DB9, RJ45 ó RJ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3" name="8_31" descr=""/>
          <p:cNvPicPr/>
          <p:nvPr/>
        </p:nvPicPr>
        <p:blipFill>
          <a:blip r:embed="rId1"/>
          <a:stretch/>
        </p:blipFill>
        <p:spPr>
          <a:xfrm>
            <a:off x="1752480" y="5867280"/>
            <a:ext cx="2286000" cy="88272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/>
          <p:nvPr/>
        </p:nvSpPr>
        <p:spPr>
          <a:xfrm>
            <a:off x="5101920" y="5791320"/>
            <a:ext cx="220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Pin 1 - Rojo - Receive +</a:t>
            </a:r>
            <a:br>
              <a:rPr sz="1400"/>
            </a:b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Pin 5 - Negro - Transmit -</a:t>
            </a:r>
            <a:br>
              <a:rPr sz="1400"/>
            </a:b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Pin 6 - Verde - Receive -</a:t>
            </a:r>
            <a:br>
              <a:rPr sz="1400"/>
            </a:b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Pin 9 - Naranja - Transmit 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57200" y="914400"/>
            <a:ext cx="8305920" cy="601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914400" y="6248520"/>
            <a:ext cx="56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D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344840" y="6172200"/>
            <a:ext cx="51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B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I.- Redes LA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3CDE-1D0B-4F33-8DB0-0EE96700B432}" type="slidenum">
              <a:t>4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.T. de Mérida, DIEE, Agosto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457200" y="30492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2.6 Interfaz de datos distribuidos por fibra (FDD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9" name=""/>
          <p:cNvGraphicFramePr/>
          <p:nvPr/>
        </p:nvGraphicFramePr>
        <p:xfrm>
          <a:off x="609480" y="990720"/>
          <a:ext cx="3657600" cy="136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990720"/>
                    <a:ext cx="3657600" cy="136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1" name=""/>
          <p:cNvGraphicFramePr/>
          <p:nvPr/>
        </p:nvGraphicFramePr>
        <p:xfrm>
          <a:off x="4572000" y="990720"/>
          <a:ext cx="3914640" cy="1406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990720"/>
                    <a:ext cx="3914640" cy="140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3" name=""/>
          <p:cNvGraphicFramePr/>
          <p:nvPr/>
        </p:nvGraphicFramePr>
        <p:xfrm>
          <a:off x="685800" y="2514600"/>
          <a:ext cx="3571920" cy="1405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8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5800" y="2514600"/>
                    <a:ext cx="3571920" cy="14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5" name=""/>
          <p:cNvGraphicFramePr/>
          <p:nvPr/>
        </p:nvGraphicFramePr>
        <p:xfrm>
          <a:off x="4800600" y="2514600"/>
          <a:ext cx="3632040" cy="1379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8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00600" y="2514600"/>
                    <a:ext cx="3632040" cy="13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7" name=""/>
          <p:cNvGraphicFramePr/>
          <p:nvPr/>
        </p:nvGraphicFramePr>
        <p:xfrm>
          <a:off x="762120" y="4038480"/>
          <a:ext cx="3581280" cy="1387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62120" y="4038480"/>
                    <a:ext cx="3581280" cy="13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9" name=""/>
          <p:cNvGraphicFramePr/>
          <p:nvPr/>
        </p:nvGraphicFramePr>
        <p:xfrm>
          <a:off x="4876920" y="4038480"/>
          <a:ext cx="3582720" cy="1379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876920" y="4038480"/>
                    <a:ext cx="3582720" cy="13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1" name=""/>
          <p:cNvGraphicFramePr/>
          <p:nvPr/>
        </p:nvGraphicFramePr>
        <p:xfrm>
          <a:off x="838080" y="5562720"/>
          <a:ext cx="3514680" cy="13636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9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838080" y="5562720"/>
                    <a:ext cx="3514680" cy="13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3" name=""/>
          <p:cNvGraphicFramePr/>
          <p:nvPr/>
        </p:nvGraphicFramePr>
        <p:xfrm>
          <a:off x="4952880" y="5562720"/>
          <a:ext cx="3498840" cy="13795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952880" y="5562720"/>
                    <a:ext cx="3498840" cy="13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"/>
          <p:cNvSpPr/>
          <p:nvPr/>
        </p:nvSpPr>
        <p:spPr>
          <a:xfrm>
            <a:off x="457200" y="838080"/>
            <a:ext cx="8305920" cy="609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I.- Redes LA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1EA6-85AE-4DD7-A2E0-C3CD8DD780DD}" type="slidenum">
              <a:t>4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.T. de Mérida, DIEE, Agosto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457200" y="38088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2.6 FD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62120" y="1015920"/>
            <a:ext cx="7772400" cy="51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Diferencias con IEEE 802.5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l token es absorbido en vez de modificarle un bi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l token es liberado al término de la transmisión de la trama (ET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Topología en doble anillo para redundanc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oporta diferentes tipo de tráfic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Tiene un módulo de software (SMT) para administrar cada esta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>
            <a:off x="838080" y="3733920"/>
            <a:ext cx="2903760" cy="306540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/>
          <p:nvPr/>
        </p:nvSpPr>
        <p:spPr>
          <a:xfrm>
            <a:off x="759960" y="3429000"/>
            <a:ext cx="189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ipos de tráf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57200" y="914400"/>
            <a:ext cx="8305920" cy="601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733920" y="4495680"/>
            <a:ext cx="4876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íncrono.-   Siempre se transm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síncrono.- Se transmite si hay capacidad dejada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por  el tráfico síncron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síncrono   Restringido. Para transmisión continu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urante un periodo de tiemp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síncrono   no restringido: Igual que en token 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I.- Redes LA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0417-B64E-4346-9FCA-FF40E8ACB592}" type="slidenum">
              <a:t>4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.T. de Mérida, DIEE, Agosto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457200" y="38088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2.6 FD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/>
          </p:nvPr>
        </p:nvSpPr>
        <p:spPr>
          <a:xfrm>
            <a:off x="685800" y="931680"/>
            <a:ext cx="77724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rmato de tra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4" name="" descr=""/>
          <p:cNvPicPr/>
          <p:nvPr/>
        </p:nvPicPr>
        <p:blipFill>
          <a:blip r:embed="rId1"/>
          <a:stretch/>
        </p:blipFill>
        <p:spPr>
          <a:xfrm>
            <a:off x="2438280" y="2201760"/>
            <a:ext cx="2362320" cy="37332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/>
          <p:nvPr/>
        </p:nvSpPr>
        <p:spPr>
          <a:xfrm>
            <a:off x="5182920" y="2209680"/>
            <a:ext cx="70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Tok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2"/>
          <a:stretch/>
        </p:blipFill>
        <p:spPr>
          <a:xfrm>
            <a:off x="2209680" y="1353960"/>
            <a:ext cx="5105520" cy="60336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/>
          <p:nvPr/>
        </p:nvSpPr>
        <p:spPr>
          <a:xfrm>
            <a:off x="457200" y="914400"/>
            <a:ext cx="8305920" cy="601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1066680" y="3657600"/>
          <a:ext cx="7162920" cy="32115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6680" y="3657600"/>
                    <a:ext cx="7162920" cy="321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0" name=""/>
          <p:cNvSpPr/>
          <p:nvPr/>
        </p:nvSpPr>
        <p:spPr>
          <a:xfrm>
            <a:off x="609480" y="2971800"/>
            <a:ext cx="77724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specificaciones de capa físic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I.- Redes LA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BF50-54C5-4745-BB4A-9596DB01B05E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.T. de Mérida, DIEE, Agosto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380880" y="304920"/>
            <a:ext cx="609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2.6 FD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2" name="FddiDblRing" descr=""/>
          <p:cNvPicPr/>
          <p:nvPr/>
        </p:nvPicPr>
        <p:blipFill>
          <a:blip r:embed="rId1"/>
          <a:stretch/>
        </p:blipFill>
        <p:spPr>
          <a:xfrm>
            <a:off x="2743200" y="914400"/>
            <a:ext cx="3276720" cy="291312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/>
          <p:nvPr/>
        </p:nvSpPr>
        <p:spPr>
          <a:xfrm>
            <a:off x="609480" y="1353960"/>
            <a:ext cx="2057400" cy="7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Anillo Primar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s por donde circulan los datos normalment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172200" y="1353960"/>
            <a:ext cx="2286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Anillo secundario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s el anillo de respaldo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a circulación es en sentid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puesto al anillo primari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5" name="FaultCable" descr=""/>
          <p:cNvPicPr/>
          <p:nvPr/>
        </p:nvPicPr>
        <p:blipFill>
          <a:blip r:embed="rId2"/>
          <a:stretch/>
        </p:blipFill>
        <p:spPr>
          <a:xfrm>
            <a:off x="1447920" y="4114800"/>
            <a:ext cx="3047760" cy="2825640"/>
          </a:xfrm>
          <a:prstGeom prst="rect">
            <a:avLst/>
          </a:prstGeom>
          <a:ln w="0">
            <a:noFill/>
          </a:ln>
        </p:spPr>
      </p:pic>
      <p:pic>
        <p:nvPicPr>
          <p:cNvPr id="416" name="FaultHost" descr=""/>
          <p:cNvPicPr/>
          <p:nvPr/>
        </p:nvPicPr>
        <p:blipFill>
          <a:blip r:embed="rId3"/>
          <a:stretch/>
        </p:blipFill>
        <p:spPr>
          <a:xfrm>
            <a:off x="4952880" y="4038480"/>
            <a:ext cx="3048120" cy="282276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/>
          <p:nvPr/>
        </p:nvSpPr>
        <p:spPr>
          <a:xfrm>
            <a:off x="761040" y="4419720"/>
            <a:ext cx="586080" cy="7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all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 e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924680" y="4267080"/>
            <a:ext cx="768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all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 u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st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57200" y="914400"/>
            <a:ext cx="8305920" cy="601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I.- Redes LA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9BE3-2087-4C84-BF7E-F7C406E95028}" type="slidenum">
              <a:t>4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.T. de Mérida, DIEE, Agosto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380880" y="3049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2.6 FD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1" name=""/>
          <p:cNvGraphicFramePr/>
          <p:nvPr/>
        </p:nvGraphicFramePr>
        <p:xfrm>
          <a:off x="457200" y="4465800"/>
          <a:ext cx="8229600" cy="2512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465800"/>
                    <a:ext cx="8229600" cy="251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3" name=""/>
          <p:cNvSpPr/>
          <p:nvPr/>
        </p:nvSpPr>
        <p:spPr>
          <a:xfrm>
            <a:off x="457200" y="914400"/>
            <a:ext cx="8305920" cy="601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4" name=""/>
          <p:cNvGraphicFramePr/>
          <p:nvPr/>
        </p:nvGraphicFramePr>
        <p:xfrm>
          <a:off x="1143000" y="990720"/>
          <a:ext cx="6858000" cy="3390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990720"/>
                    <a:ext cx="6858000" cy="33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I.- Redes LA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3EA9-7111-4308-B92C-D15B795D6A01}" type="slidenum">
              <a:t>4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.T. de Mérida, DIEE, Agosto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457200" y="3808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2.6 FD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82560" y="990720"/>
            <a:ext cx="255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staciones y  puer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8" name="konfig5" descr=""/>
          <p:cNvPicPr/>
          <p:nvPr/>
        </p:nvPicPr>
        <p:blipFill>
          <a:blip r:embed="rId1"/>
          <a:stretch/>
        </p:blipFill>
        <p:spPr>
          <a:xfrm>
            <a:off x="1143000" y="1676520"/>
            <a:ext cx="3351240" cy="4267080"/>
          </a:xfrm>
          <a:prstGeom prst="rect">
            <a:avLst/>
          </a:prstGeom>
          <a:ln w="0">
            <a:noFill/>
          </a:ln>
        </p:spPr>
      </p:pic>
      <p:pic>
        <p:nvPicPr>
          <p:cNvPr id="429" name="konfig1" descr=""/>
          <p:cNvPicPr/>
          <p:nvPr/>
        </p:nvPicPr>
        <p:blipFill>
          <a:blip r:embed="rId2"/>
          <a:stretch/>
        </p:blipFill>
        <p:spPr>
          <a:xfrm>
            <a:off x="5105520" y="1676520"/>
            <a:ext cx="3274920" cy="3276360"/>
          </a:xfrm>
          <a:prstGeom prst="rect">
            <a:avLst/>
          </a:prstGeom>
          <a:ln w="0">
            <a:noFill/>
          </a:ln>
        </p:spPr>
      </p:pic>
      <p:pic>
        <p:nvPicPr>
          <p:cNvPr id="430" name="s1297" descr=""/>
          <p:cNvPicPr/>
          <p:nvPr/>
        </p:nvPicPr>
        <p:blipFill>
          <a:blip r:embed="rId3"/>
          <a:stretch/>
        </p:blipFill>
        <p:spPr>
          <a:xfrm>
            <a:off x="5029200" y="5181480"/>
            <a:ext cx="3657600" cy="1716120"/>
          </a:xfrm>
          <a:prstGeom prst="rect">
            <a:avLst/>
          </a:prstGeom>
          <a:ln w="0">
            <a:noFill/>
          </a:ln>
        </p:spPr>
      </p:pic>
      <p:sp>
        <p:nvSpPr>
          <p:cNvPr id="431" name=""/>
          <p:cNvSpPr/>
          <p:nvPr/>
        </p:nvSpPr>
        <p:spPr>
          <a:xfrm>
            <a:off x="7773120" y="5638680"/>
            <a:ext cx="973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erto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 un D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76520" y="1353960"/>
            <a:ext cx="203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illo de árbo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57200" y="914400"/>
            <a:ext cx="8305920" cy="601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I.- Redes LA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585F-480C-4F5F-BFB8-E9D7227DEC31}" type="slidenum">
              <a:t>4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.T. de Mérida, DIEE, Agosto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/>
          <p:nvPr/>
        </p:nvSpPr>
        <p:spPr>
          <a:xfrm>
            <a:off x="457200" y="914400"/>
            <a:ext cx="8153280" cy="601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57200" y="3808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Resumen de cables para L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6" name=""/>
          <p:cNvGraphicFramePr/>
          <p:nvPr/>
        </p:nvGraphicFramePr>
        <p:xfrm>
          <a:off x="1066680" y="1295280"/>
          <a:ext cx="6953400" cy="2743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295280"/>
                    <a:ext cx="695340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8" name=""/>
          <p:cNvSpPr/>
          <p:nvPr/>
        </p:nvSpPr>
        <p:spPr>
          <a:xfrm>
            <a:off x="1209600" y="914400"/>
            <a:ext cx="480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Par trenzado sin blindaje (UTP).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100 oh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132920" y="3809880"/>
            <a:ext cx="48366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Par trenzado con blindaje (STP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). 150 oh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Tipos 1, 2, 6, 8 y 9 para 16 MHz (token ring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Tipos 1A, 2A, 6A y 9A para 100 MHz (FDD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210680" y="4876920"/>
            <a:ext cx="61898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Par trenzado apantallado (FTP o ScTP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). 100 oh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quivalente a UTP 3, 4 y 5 con mejores características (Etherne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217520" y="5562720"/>
            <a:ext cx="526176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Cable Coaxial.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No balanceado. RG58A/U (10Base2) y RG8(10Base5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Balanceado. Twinax (1000BaseC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I.- Redes LA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8C3B-A0AD-4DC6-B84C-BC7163FFC6A6}" type="slidenum">
              <a:t>4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.T. de Mérida, DIEE, Agosto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7200" y="931680"/>
            <a:ext cx="77724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tándares LAN/M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09480" y="5587920"/>
            <a:ext cx="815364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57200" y="914400"/>
            <a:ext cx="8153280" cy="601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122" descr=""/>
          <p:cNvPicPr/>
          <p:nvPr/>
        </p:nvPicPr>
        <p:blipFill>
          <a:blip r:embed="rId1"/>
          <a:stretch/>
        </p:blipFill>
        <p:spPr>
          <a:xfrm>
            <a:off x="533520" y="1719360"/>
            <a:ext cx="8076960" cy="45068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457200" y="30492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2.1 Arquitectura IEEE 8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I.- Redes LA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07E1-FC97-4BF8-A27D-3ED1D910C5F3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.T. de Mérida, DIEE, Agosto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533520" y="38088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2.2. Eth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9480" y="5587920"/>
            <a:ext cx="815364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09120" y="931680"/>
            <a:ext cx="8001000" cy="60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Características Generales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s la red LAN más popular (80 % del mercado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Tasa de transmisión: 10 Mbps, 100 Mbps (Fast), 1 Gbps (Giga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Topologías soportadas: bus y estrella (más popular actualmente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rotocolo de acceso al medio del tipo contención: CSMA/C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resencia de colision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decuado para cargas bajas de tráfic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Transmisión Half Dúplex en buses y full dúplex en Hub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Medios de transmisión soportados: UTP, Coaxial, Fibra Optic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Tamaño máximo de trama (MTU) de 1518 bytes y tamaño mínimo de 64 byt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57200" y="914400"/>
            <a:ext cx="8153280" cy="601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I.- Redes LA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64AB-1FE6-4401-8E56-97B4744BDC17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.T. de Mérida, DIEE, Agosto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09480" y="5587920"/>
            <a:ext cx="815364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609120" y="931680"/>
            <a:ext cx="8001000" cy="60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Historia de Etherne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esarrollada en los 70s, en  el Centro de Investigación de Xerox en Palo Alto por  Robert M. Metcalfe a 2.94 Mbp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n 1979,  </a:t>
            </a: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D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c, </a:t>
            </a: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I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ntel y </a:t>
            </a: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rox crean el estándar DIX. Llamado “Thick Ethernet” o 10Base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n 1983 la IEEE lo adopta como estándar en su especificación 802.3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n 1985 se define “Thin Ethernet” (10BASE2) y 10BROAD36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n 1987 se define “Fiber Optic Interrepeater Link” (FOIRL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n 1990 se define Ethernet sobre UTP (10BASE-T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n 1993 se define 10BASE-F, actualización de FOIR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n 1995 se define Fast Ethernet (100 Mbps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n 1997 se define la operación full dúplex para Etherne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n 1997 se define un estándar para operar a 100 Mbps sobre UTP 3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n 1998 se define un estándar para operar a 1 Gbps sobre F.O y ST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n 1999 se define un estándar para operar 1 Gbps sobre UTP 5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n progreso estándar para 10 Gbp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57200" y="914400"/>
            <a:ext cx="8153280" cy="601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33520" y="38088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2.2. Eth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I.- Redes LA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8C99-F472-4D5C-9149-44D58C86E76E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.T. de Mérida, DIEE, Agosto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09480" y="5587920"/>
            <a:ext cx="815364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609120" y="932040"/>
            <a:ext cx="8001000" cy="104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rotocolo MAC de Ethernet. Control de acceso al medio con sensado de portadora y     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etección de colisiones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Transmisión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914400"/>
            <a:ext cx="8153280" cy="601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1295280" y="1981080"/>
          <a:ext cx="6934320" cy="474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981080"/>
                    <a:ext cx="6934320" cy="474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"/>
          <p:cNvSpPr/>
          <p:nvPr/>
        </p:nvSpPr>
        <p:spPr>
          <a:xfrm>
            <a:off x="533520" y="38088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2.2. Ethernet. CSMA/C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I.- Redes LA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2423-DA24-4407-8B49-4A8AE6C67FBB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.T. de Mérida, DIEE, Agosto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4724280"/>
            <a:ext cx="81532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>
              <a:lnSpc>
                <a:spcPct val="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Tiempo de transmisión mínimo por parte de una es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2 · Tp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imes New Roman"/>
              </a:rPr>
              <a:t>max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. + margen =  1 ranura de tiemp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Tamaño de trama mínimo =512 tiempos de bit = 64 by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ada estación introduce entre tramas un retardo (gap time) para permitir 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rocesamiento en el receptor (9.6 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 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838080" y="3048120"/>
            <a:ext cx="3679920" cy="1269000"/>
            <a:chOff x="838080" y="3048120"/>
            <a:chExt cx="3679920" cy="126900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838080" y="3048120"/>
              <a:ext cx="3679920" cy="99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1455120" y="3979800"/>
              <a:ext cx="22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(c) Las tramas colisiona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4724280" y="3048120"/>
            <a:ext cx="3750840" cy="1353600"/>
            <a:chOff x="4724280" y="3048120"/>
            <a:chExt cx="3750840" cy="1353600"/>
          </a:xfrm>
        </p:grpSpPr>
        <p:pic>
          <p:nvPicPr>
            <p:cNvPr id="96" name="" descr=""/>
            <p:cNvPicPr/>
            <p:nvPr/>
          </p:nvPicPr>
          <p:blipFill>
            <a:blip r:embed="rId2"/>
            <a:stretch/>
          </p:blipFill>
          <p:spPr>
            <a:xfrm>
              <a:off x="4724280" y="3048120"/>
              <a:ext cx="3695760" cy="103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5037480" y="4064400"/>
              <a:ext cx="3437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(d) A se da cuenta y cesa su transmis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457200" y="914400"/>
            <a:ext cx="8153280" cy="601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762120" y="1143000"/>
            <a:ext cx="3695760" cy="1480320"/>
            <a:chOff x="762120" y="1143000"/>
            <a:chExt cx="3695760" cy="1480320"/>
          </a:xfrm>
        </p:grpSpPr>
        <p:pic>
          <p:nvPicPr>
            <p:cNvPr id="100" name="" descr=""/>
            <p:cNvPicPr/>
            <p:nvPr/>
          </p:nvPicPr>
          <p:blipFill>
            <a:blip r:embed="rId3"/>
            <a:stretch/>
          </p:blipFill>
          <p:spPr>
            <a:xfrm>
              <a:off x="762120" y="1143000"/>
              <a:ext cx="3695760" cy="104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1684800" y="2286000"/>
              <a:ext cx="229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(a) A inicia la transmis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4648320" y="1219320"/>
            <a:ext cx="3703680" cy="1480320"/>
            <a:chOff x="4648320" y="1219320"/>
            <a:chExt cx="3703680" cy="1480320"/>
          </a:xfrm>
        </p:grpSpPr>
        <p:pic>
          <p:nvPicPr>
            <p:cNvPr id="103" name="" descr=""/>
            <p:cNvPicPr/>
            <p:nvPr/>
          </p:nvPicPr>
          <p:blipFill>
            <a:blip r:embed="rId4"/>
            <a:stretch/>
          </p:blipFill>
          <p:spPr>
            <a:xfrm>
              <a:off x="4648320" y="1219320"/>
              <a:ext cx="3703680" cy="101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181840" y="2362320"/>
              <a:ext cx="231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(b) C “ve” el canal lib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533520" y="38088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2.2. Ethernet. CSMA/CD. Colis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I.- Redes LA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3A7D-9D45-4E27-91A8-367E3795D0BB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.T. de Mérida, DIEE, Agosto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29T21:11:54Z</dcterms:created>
  <dc:creator>J. Agustín Hernández Benítez</dc:creator>
  <dc:description/>
  <dc:language>en-US</dc:language>
  <cp:lastModifiedBy>José Agustín Hernández B.</cp:lastModifiedBy>
  <cp:lastPrinted>1998-09-15T20:12:36Z</cp:lastPrinted>
  <dcterms:modified xsi:type="dcterms:W3CDTF">2000-07-15T21:43:45Z</dcterms:modified>
  <cp:revision>85</cp:revision>
  <dc:subject/>
  <dc:title>Sin título de diapositiva</dc:title>
</cp:coreProperties>
</file>